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48B7-1BE5-4005-A79A-944CC9516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19F-4BAD-4DBB-B127-54CE0FBEFC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9AB-9CA5-46A3-A91C-EF51F95E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D5B-2C22-4C47-A762-2551732F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31D-0132-41EF-8D23-543F55A3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2DF-5035-466A-BFE5-14A9337C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3F3F-7356-4819-A889-6682B69F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62FF-C48F-4219-8ABF-9529F67B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E31B-E2D6-47E0-AAE2-614F2B6E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E1F7-EA5A-460C-B03D-7B8E47D7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58F1-C4A1-4F03-B396-A90F07A8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74E2-42FB-4A5E-8809-9C227F53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0C68-44A3-4DFD-B7FF-F57BCECC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74B-F824-4656-AA45-50C11EA6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66FC-65A1-43A6-9FBF-B910EFC8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9382-4BFF-483C-8D2C-2D6FE1E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CBD5-61CD-4D51-88AB-96F56B95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A4E-4613-4733-A9C1-61C1AB10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782A-EAB6-4CC3-82B1-00FA9157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D320-2CE4-4E41-B69B-F9D5AC43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B455-11E4-45DF-BD74-B73FEAA0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D418-DFE8-49D2-BA25-2989C5D0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FD15-05B1-401D-8EE1-E76BAA83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D103-C4A1-47E9-A207-2C9F8B91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0E2-B7E0-472A-933F-990E2021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2367-62D4-4BCB-8691-AE0EB88C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383F4-34AA-495F-A9FF-ABAD2EE8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2A18-9184-415E-A994-AFD13BE8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B962-84F8-42D8-A1DB-9A0902AC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9567-64F0-4FB5-BF02-25B9C57D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BE75E-10E5-4726-BAA0-0660EC65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091A-94C8-4C9A-A073-89C4731A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1EDD9-7141-4D8F-A476-A93E6A6E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F9B98-FC68-42A2-B8E0-C3742672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3FFEE-3F77-48B3-86A7-670065CC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3FD-84ED-47F4-8A8D-0DD108BB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1BC6C-03F0-404F-8905-53E6BDA4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B128-AD93-4F7A-83C3-203A1B60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75D58-D399-4D70-A3E9-3E649080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267D3-03C3-43AF-B39E-79917E6E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90985-42E1-4850-8130-B554C3A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F85B-EFAF-4B0E-AC76-36352784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4CF4-A8B7-4962-A3CF-61524089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65BF3-2D92-4F42-916A-FFB861B1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AA59-BB72-4757-B63C-50C33E7D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273-F740-45E9-8BFD-1C7E612A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323-D563-4EEF-B75A-C8C0AA01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89E-3255-459F-82B2-53F13FEC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7B6-91A4-469A-B1C2-C875DA5A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523-C8E9-4EDE-8729-9E16E05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54A0-88FA-4596-940C-14B2A343049E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4783-5562-4D4B-BD83-A6F0CBA2016A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A0BE-47C0-40AE-8906-E316FFFE56FD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105520"/>
            <a:ext cx="8469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59CE-F7FF-4C3A-9A60-DDD075A8B872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wu.edu/~darwin/BiSc150/One/rose.GIF&amp;imgrefurl=http://www.gwu.edu/~darwin/BiSc150/One/genetics.htm&amp;usg=__neYJZqJeUmRWUrwdQVsn5Io473I=&amp;h=496&amp;w=688&amp;sz=15&amp;hl=en&amp;start=4&amp;tbnid=954S_ci5gz2v5M:&amp;tbnh=100&amp;tbnw=139&amp;prev=/images?q=incomplete+dominance&amp;gbv=2&amp;hl=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Notes: NonMendelian Genetics </a:t>
            </a:r>
            <a:br>
              <a:rPr sz="6600"/>
            </a:br>
            <a:r>
              <a:rPr b="0" lang="en-US" sz="4700" spc="-1" strike="noStrike">
                <a:solidFill>
                  <a:srgbClr val="ffffff"/>
                </a:solidFill>
                <a:latin typeface="Century Schoolbook"/>
              </a:rPr>
              <a:t>(Beyond Dominant &amp; Recessive Alleles)</a:t>
            </a:r>
            <a:endParaRPr b="0" lang="en-US" sz="4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Polygenic Trai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ly = many, genic = ge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trait controlled by more than two gen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how a wide range of phenotyp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. Human skin co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ore capital letters = more pigmentation (darker color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ives a bell-shaped curve on a grap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skin"/>
          <p:cNvPicPr/>
          <p:nvPr/>
        </p:nvPicPr>
        <p:blipFill>
          <a:blip r:embed="rId1"/>
          <a:stretch/>
        </p:blipFill>
        <p:spPr>
          <a:xfrm>
            <a:off x="228600" y="1676520"/>
            <a:ext cx="39402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eight"/>
          <p:cNvPicPr/>
          <p:nvPr/>
        </p:nvPicPr>
        <p:blipFill>
          <a:blip r:embed="rId2"/>
          <a:stretch/>
        </p:blipFill>
        <p:spPr>
          <a:xfrm>
            <a:off x="4419720" y="2825640"/>
            <a:ext cx="4305240" cy="33274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0"/>
          <p:cNvSpPr/>
          <p:nvPr/>
        </p:nvSpPr>
        <p:spPr>
          <a:xfrm>
            <a:off x="990720" y="10666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 skin col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638680" y="22860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 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complete Dominanc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e allele is not completely dominant over another allel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eterozygous genotype is a blend of the 2 homozygous genotyp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d-flower (RR) x White flower (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) = Pink flower (R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0" name="Picture 5" descr="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67440" y="4800600"/>
            <a:ext cx="30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punnett1"/>
          <p:cNvPicPr/>
          <p:nvPr/>
        </p:nvPicPr>
        <p:blipFill>
          <a:blip r:embed="rId1"/>
          <a:stretch/>
        </p:blipFill>
        <p:spPr>
          <a:xfrm>
            <a:off x="2743200" y="2286000"/>
            <a:ext cx="3705120" cy="3333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Red (RR) x White (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743200" y="17524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057400" y="2590920"/>
            <a:ext cx="609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724280" y="28954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3124080" y="28954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3048120" y="457200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4876920" y="455940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R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dominanc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656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oth alleles contribute to the phenotyp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eterozygous phenotype shows both alleles separately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lack chicken (BB) x White chicken (WW) = Black and White spotted chicken (BW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1" name="Picture 5" descr="plyrockbantam_white_m_200"/>
          <p:cNvPicPr/>
          <p:nvPr/>
        </p:nvPicPr>
        <p:blipFill>
          <a:blip r:embed="rId1"/>
          <a:stretch/>
        </p:blipFill>
        <p:spPr>
          <a:xfrm>
            <a:off x="1143000" y="4876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hicken"/>
          <p:cNvPicPr/>
          <p:nvPr/>
        </p:nvPicPr>
        <p:blipFill>
          <a:blip r:embed="rId2"/>
          <a:stretch/>
        </p:blipFill>
        <p:spPr>
          <a:xfrm>
            <a:off x="3605040" y="4952880"/>
            <a:ext cx="1513080" cy="175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scotsdumpyla"/>
          <p:cNvPicPr/>
          <p:nvPr/>
        </p:nvPicPr>
        <p:blipFill>
          <a:blip r:embed="rId3"/>
          <a:stretch/>
        </p:blipFill>
        <p:spPr>
          <a:xfrm>
            <a:off x="5791320" y="4952880"/>
            <a:ext cx="167616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hite chicken (WW) x Black chicken (BB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5" name="Picture 4" descr="punnett1"/>
          <p:cNvPicPr/>
          <p:nvPr/>
        </p:nvPicPr>
        <p:blipFill>
          <a:blip r:embed="rId1"/>
          <a:stretch/>
        </p:blipFill>
        <p:spPr>
          <a:xfrm>
            <a:off x="2514600" y="2197080"/>
            <a:ext cx="3705120" cy="3336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124080" y="1600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133720" y="2590920"/>
            <a:ext cx="5331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97180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80060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895480" y="4433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724280" y="4433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0440" y="-19080"/>
            <a:ext cx="7270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ultiple Allel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trait controlled by only 2 alleles, yet more than 2 alleles for that trait exist in a popul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. Rabbit coat colo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= full color; dominant to all other alle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chinchilla; dominant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and c alle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= himalayan; dominant to c alle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 = albino; recessive to all other allel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an example: Blood typ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image002"/>
          <p:cNvPicPr/>
          <p:nvPr/>
        </p:nvPicPr>
        <p:blipFill>
          <a:blip r:embed="rId1"/>
          <a:stretch/>
        </p:blipFill>
        <p:spPr>
          <a:xfrm>
            <a:off x="914400" y="914400"/>
            <a:ext cx="715968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graphic element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graphic element"/>
          <p:cNvPicPr/>
          <p:nvPr/>
        </p:nvPicPr>
        <p:blipFill>
          <a:blip r:embed="rId1"/>
          <a:stretch/>
        </p:blipFill>
        <p:spPr>
          <a:xfrm>
            <a:off x="457200" y="2057400"/>
            <a:ext cx="80010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0:20Z</dcterms:created>
  <dc:creator>Zebulon Holsopple</dc:creator>
  <dc:description/>
  <cp:keywords/>
  <dc:language>en-US</dc:language>
  <cp:lastModifiedBy>Geneva Jost</cp:lastModifiedBy>
  <dcterms:modified xsi:type="dcterms:W3CDTF">2017-02-11T15:14:02Z</dcterms:modified>
  <cp:revision>17</cp:revision>
  <dc:subject>Biology I Honors</dc:subject>
  <dc:title>3.2.2_Notes_NonMendelianGenetics</dc:title>
</cp:coreProperties>
</file>